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8FF-2449-4DAA-9CEC-E0D4DD26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AB7-B289-4CFF-B05D-7C3BF2B5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E5C-7AEC-4C89-BFCB-C19DBFBD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43F-23FE-4361-B213-406A7923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976-E03F-47C3-81F8-BD277F41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8D6E-D310-4CF6-9641-5112504E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EBD-4840-4934-B855-8B3B69F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4371-8438-4761-9B77-5A3D552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EBE-1BED-45CA-99F5-F8D47A3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268D-23D3-4D11-8FB1-72E4302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0C18-BFDD-4E96-9AAE-FA1C48C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B8C-53D1-4F25-8C5F-4435A259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4EA-E32B-4027-9110-821596C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2C2-2CC4-4B3B-81B1-F30F6AF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595D-8DF9-4C58-B417-7E8FCE71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8A6-2F6F-4608-9467-5A7ACDEA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417F-DE71-4BC4-A0E6-9F222C92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287-DCBE-49AC-ACAB-184C9FF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70D-9B2E-4EC8-96D8-BDF6C37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5D6-8A5C-4892-A3E7-2739870A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387-64ED-45C4-B719-265A196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477-111C-4B06-BBEF-15C8939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A95-3008-4641-9DAF-4014E82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F28-DA8F-4D48-9C5B-4B6269C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B496-B58F-4C58-896D-DCD1B6FA16B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857-4E13-4C00-BC23-F3772F2B4D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S 8761: Final Pro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timent Classif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ianza L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mine Abou-Rjeili, Suchitra Goopy, Amruta Purandare, Sam Sto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 co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600200"/>
          <a:ext cx="8229600" cy="4616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o scal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cale 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(pos/total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* sentimen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cale 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(1-(pos/total)) * sentimen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cale 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abs((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(pos-total/2) *2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/total) * sentimen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</a:tr>
              <a:tr h="33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achy 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eeling -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-------------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achy .8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eeling -.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-------------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.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achy .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eeling -.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-------------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-.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achy .68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eeling -.1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-------------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.5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c0c0c0"/>
                        </a:gs>
                        <a:gs pos="50000">
                          <a:srgbClr val="ffffff"/>
                        </a:gs>
                        <a:gs pos="100000">
                          <a:srgbClr val="c0c0c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eri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us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 data, car1 data, playstation data, and line-data as sanity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 different window siz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 each data set using all four scaling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685800" y="647640"/>
          <a:ext cx="7848720" cy="56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47640"/>
                    <a:ext cx="784872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757080" y="703440"/>
          <a:ext cx="77695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703440"/>
                    <a:ext cx="77695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762120" y="703440"/>
          <a:ext cx="7924680" cy="56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03440"/>
                    <a:ext cx="792468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762120" y="703440"/>
          <a:ext cx="784836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03440"/>
                    <a:ext cx="78483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762120" y="703440"/>
          <a:ext cx="7924680" cy="56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03440"/>
                    <a:ext cx="792468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ump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view sentiment is based on sentiment of it’s wor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lds true for some review typ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r data achieved 87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nity data had 56 undecided in best ca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vie &amp; Playstation reviews do not support assum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aked at ~6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alysis co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s from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ems that best scaling method is based on type of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gnoring middle words hurt car1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ddle words helped movi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d on experiments, no method is b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ly dependent on review struct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alysis cont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ffect of wind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der window increases precision and reduces recall due to less attemp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 data ty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nity had more undecided than any other typ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ear relationship between window size and minimum degree of senti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orith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l sche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lter review words with BigMa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okup word sentiment in LDO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the web to augment LDO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in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ign +/-/= sentiment to LDOCE’s Activ C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alysis co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bining windows and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ndow can capture more right than wrong, reducing preci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aling can shift values into the wind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502920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502920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51814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674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24680" y="5105520"/>
            <a:ext cx="15264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876920"/>
            <a:ext cx="3962160" cy="685800"/>
          </a:xfrm>
          <a:prstGeom prst="rect">
            <a:avLst/>
          </a:prstGeom>
          <a:noFill/>
          <a:ln w="381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49200" y="579132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ight guess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55080" y="579132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rong guess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ture id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ndow siz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ine more ways of calculating wind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ly impacts resul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 metho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ine different methods, perhaps non-linear fun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ine impact across multiple review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specificall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lter review wo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BigMac’s POS tags to remove certain wor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tionally remove stop wor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eck LDOCE for wo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found, sum sentiment value for each Activ code into a total for this wor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not found go to the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specifically co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ing the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a word is not in LDOCE, use the web to gather a context for this wor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ine sentiment of the contex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okup each context word sentiment in LDO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m sentiment of contextual wor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timent of the context becomes the sentiment of this wor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al Ste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view senti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m of each word sentiment becomes the review senti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iment value &gt; 0? Positive 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iment value &lt; 0? Negative 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iment value = 0? Undecid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itional techniq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ale sentiment impact based on word locati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ords near the end have more impact (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ords in beginning have more impact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ords in beginning and end have most and those in the middle have the least (3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ear method chos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decided wind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culate a window based on review senti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ose values in window are undecid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ed in about 30% undecided in “wide” ca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suall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676520"/>
            <a:ext cx="1219320" cy="838080"/>
          </a:xfrm>
          <a:prstGeom prst="flowChartMultidocumen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view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581280"/>
            <a:ext cx="1676520" cy="838440"/>
          </a:xfrm>
          <a:prstGeom prst="flowChartPredefinedProcess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tiv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bel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2" idx="3"/>
            <a:endCxn id="224" idx="1"/>
          </p:cNvCxnSpPr>
          <p:nvPr/>
        </p:nvCxnSpPr>
        <p:spPr>
          <a:xfrm flipV="1">
            <a:off x="3886200" y="3962160"/>
            <a:ext cx="457920" cy="38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5638680" y="609480"/>
            <a:ext cx="1600200" cy="914400"/>
          </a:xfrm>
          <a:prstGeom prst="flowChartAlternateProcess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d t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vie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tim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1905120"/>
            <a:ext cx="1295640" cy="38088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wor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8" idx="3"/>
            <a:endCxn id="226" idx="1"/>
          </p:cNvCxnSpPr>
          <p:nvPr/>
        </p:nvCxnSpPr>
        <p:spPr>
          <a:xfrm>
            <a:off x="3505320" y="2095200"/>
            <a:ext cx="76248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6" idx="2"/>
            <a:endCxn id="230" idx="0"/>
          </p:cNvCxnSpPr>
          <p:nvPr/>
        </p:nvCxnSpPr>
        <p:spPr>
          <a:xfrm>
            <a:off x="4914720" y="2285640"/>
            <a:ext cx="1080" cy="305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30" idx="2"/>
            <a:endCxn id="224" idx="0"/>
          </p:cNvCxnSpPr>
          <p:nvPr/>
        </p:nvCxnSpPr>
        <p:spPr>
          <a:xfrm>
            <a:off x="4914720" y="3428640"/>
            <a:ext cx="1080" cy="305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4191120" y="2590920"/>
            <a:ext cx="1447560" cy="838080"/>
          </a:xfrm>
          <a:prstGeom prst="flowChartDecision">
            <a:avLst/>
          </a:prstGeom>
          <a:solidFill>
            <a:srgbClr val="33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em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ache*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4419720"/>
            <a:ext cx="1447560" cy="838080"/>
          </a:xfrm>
          <a:prstGeom prst="flowChartDecision">
            <a:avLst/>
          </a:prstGeom>
          <a:solidFill>
            <a:srgbClr val="33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ache*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4" idx="2"/>
            <a:endCxn id="232" idx="0"/>
          </p:cNvCxnSpPr>
          <p:nvPr/>
        </p:nvCxnSpPr>
        <p:spPr>
          <a:xfrm>
            <a:off x="4914720" y="4190760"/>
            <a:ext cx="1080" cy="22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43400" y="3733920"/>
            <a:ext cx="1143000" cy="4572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DO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5562720"/>
            <a:ext cx="1295640" cy="9144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828800"/>
            <a:ext cx="1600200" cy="533520"/>
          </a:xfrm>
          <a:prstGeom prst="flowChartAlternate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caling (if any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2" idx="2"/>
            <a:endCxn id="234" idx="0"/>
          </p:cNvCxnSpPr>
          <p:nvPr/>
        </p:nvCxnSpPr>
        <p:spPr>
          <a:xfrm>
            <a:off x="4914720" y="5257440"/>
            <a:ext cx="1080" cy="305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3"/>
            <a:endCxn id="235" idx="2"/>
          </p:cNvCxnSpPr>
          <p:nvPr/>
        </p:nvCxnSpPr>
        <p:spPr>
          <a:xfrm flipV="1">
            <a:off x="5638320" y="2361600"/>
            <a:ext cx="2172600" cy="24771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4" idx="3"/>
            <a:endCxn id="235" idx="2"/>
          </p:cNvCxnSpPr>
          <p:nvPr/>
        </p:nvCxnSpPr>
        <p:spPr>
          <a:xfrm flipV="1">
            <a:off x="5486400" y="2361600"/>
            <a:ext cx="2324880" cy="16009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0" idx="3"/>
            <a:endCxn id="235" idx="2"/>
          </p:cNvCxnSpPr>
          <p:nvPr/>
        </p:nvCxnSpPr>
        <p:spPr>
          <a:xfrm flipV="1">
            <a:off x="5638320" y="2361600"/>
            <a:ext cx="2172600" cy="6483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5" idx="0"/>
            <a:endCxn id="225" idx="3"/>
          </p:cNvCxnSpPr>
          <p:nvPr/>
        </p:nvCxnSpPr>
        <p:spPr>
          <a:xfrm flipV="1" rot="16200000">
            <a:off x="7143120" y="1161000"/>
            <a:ext cx="762840" cy="572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5" idx="1"/>
            <a:endCxn id="226" idx="0"/>
          </p:cNvCxnSpPr>
          <p:nvPr/>
        </p:nvCxnSpPr>
        <p:spPr>
          <a:xfrm flipV="1" rot="10800000">
            <a:off x="4914360" y="1065600"/>
            <a:ext cx="724320" cy="8391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2590920" y="1676520"/>
            <a:ext cx="914400" cy="83808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l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ing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gMa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21" idx="3"/>
            <a:endCxn id="228" idx="1"/>
          </p:cNvCxnSpPr>
          <p:nvPr/>
        </p:nvCxnSpPr>
        <p:spPr>
          <a:xfrm>
            <a:off x="2133720" y="2095200"/>
            <a:ext cx="4579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6324480" y="5562720"/>
            <a:ext cx="1143000" cy="83808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alyz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LDO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4" idx="3"/>
            <a:endCxn id="243" idx="1"/>
          </p:cNvCxnSpPr>
          <p:nvPr/>
        </p:nvCxnSpPr>
        <p:spPr>
          <a:xfrm flipV="1">
            <a:off x="5562720" y="5981400"/>
            <a:ext cx="762480" cy="38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3" idx="3"/>
            <a:endCxn id="235" idx="2"/>
          </p:cNvCxnSpPr>
          <p:nvPr/>
        </p:nvCxnSpPr>
        <p:spPr>
          <a:xfrm flipV="1">
            <a:off x="7467120" y="2361960"/>
            <a:ext cx="343800" cy="36201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33520" y="5789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* Use of caching drops run-time an order of magnitude (~10 min / 100 review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ample Sentenc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I am feeling peachy toda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ep 1: Filter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iminate stop wor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low selected POS (adjectives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: </a:t>
            </a:r>
            <a:r>
              <a:rPr b="0" lang="en-US" sz="3200" spc="-1" strike="noStrike">
                <a:solidFill>
                  <a:srgbClr val="6f89f7"/>
                </a:solidFill>
                <a:latin typeface="Tahoma"/>
              </a:rPr>
              <a:t>feeling, peach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 co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ep 2: Determine senti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okup word in LDOCE for senti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: feeling =&gt; -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not found, determine from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ntence :: The peachy Mrs. B was looking adorab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sentence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=&gt;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each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=&gt;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rs.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=&gt; 0                =&gt; Total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a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=&gt;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okin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=&gt;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orabl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=&gt;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9:39:18Z</dcterms:created>
  <dc:creator>Computer Science Department</dc:creator>
  <dc:description/>
  <dc:language>en-US</dc:language>
  <cp:lastModifiedBy>Sam Storie</cp:lastModifiedBy>
  <dcterms:modified xsi:type="dcterms:W3CDTF">2002-12-17T02:53:15Z</dcterms:modified>
  <cp:revision>101</cp:revision>
  <dc:subject/>
  <dc:title>PowerPoint Presentation</dc:title>
</cp:coreProperties>
</file>