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928-74A5-468B-AFCE-83FE8D89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373-C609-4C8E-A8D8-E81C486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498-AA3C-4C1C-8B93-A3AB76BF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F36-E9B7-4FC9-B667-049EDE40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BAE-FCC7-47C6-A499-32402E8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BA4-7687-49C5-A562-88D802C8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842-F240-4491-96EB-C97EE1C6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087-120D-4B08-9784-033B3089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B5E-E02C-419A-A471-1E19D0E2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89C-D708-427D-8CD4-85EE549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284-EB69-4963-A73F-7A2A76D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356-3416-45F0-AC2B-BABBA7B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C153-A091-444B-B32F-C1742CF04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hapter 9</a:t>
            </a:r>
            <a:br>
              <a:rPr sz="36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lumn Chroma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lumn Chromatography (C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lumn chromatography is a useful method for separation and purification of solids and liquid samples under 10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C works on the same principle of TLC except that the sample solution flows down a column of silica gel or alumina filled with sol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partition coefficient represents the efficiency of the column and is determined by the solubility of the solute in the two ph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981000"/>
            <a:ext cx="7634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ly complete Part 1 (microscale) pp. 210-211, Ferrocene and Acetylferroc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acking the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ke sure your column has a polyethylene fr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our the silica gel (or alumina) into the column so it is 1/2 to 2/3 f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our this silica gel into a 50 mL beaker and add 8 mL of hex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amp the column in a vertical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 2 mL of hexane to th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ir the hexane silica gel mixture while pouring into th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en the valve and drain the solvent. Do not let the solvent level get below the silica g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peat the last three steps until all of the silica gel is in th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ose the valve with some solvent remaining at the top of th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lumn Chromatography (C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236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olumn Chromatography (C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the handout for further experimental steps and obtain the foll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ight of crude ferrocene and of crude acetylferroc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lting points of ferrocene and of acetylferroc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rcent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cetylferrocene is toxic. Handle with ca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xane is flammable. Be aware of your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should be easy to follow this separation process as both compounds are colo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43:11Z</dcterms:modified>
  <cp:revision>107</cp:revision>
  <dc:subject/>
  <dc:title>PowerPoint Presentation</dc:title>
</cp:coreProperties>
</file>