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9605-DEB4-47F6-AF9D-A76D69757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972F-99ED-4164-BD39-F6EBD458D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9C02-F0E6-4934-9DE6-757B9736B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AC11-06AF-4CE7-92B1-12D5DE2B6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4080-15C7-4C22-8274-8650CE3DE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B56C-2781-462A-BF77-FAEBC7BCA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B64F-7D30-4CE2-A65F-17E657AD3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3C06-C1EA-440D-B14B-F9A5CF3F1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2F51-D09E-425B-A4B6-2484AA809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2D21-29E3-4016-BBBB-1D1C264CD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4615-10A2-435A-912D-D6E7EC8C2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E76A-E055-41D2-9A36-4D9ACAD43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87B2F-C332-40BC-AE88-0446D5D68A9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349360"/>
            <a:ext cx="91440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Times New Roman"/>
              </a:rPr>
              <a:t>Chapter 3</a:t>
            </a: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Melting points and Boiling po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Times New Roman"/>
              </a:rPr>
              <a:t>Melting Po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he melting point (mp) of a pure solid organic compound is a characteristic physical proper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Mp’s are dictated by the degree of van-der- Waals, hydrogen bonding, and dipole-dipole interactions between molecu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Mp determination helps to characterize a compound and indicate purity (mp rang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etermined using a Mel-Temp apparatus and a capillary tube to hold the samp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Times New Roman"/>
              </a:rPr>
              <a:t>Melting Po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o calibration of the thermometer using naphthalene (80-82°C)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ake the melting point of pure urea and cinnamic acid. Take the melting point of pure urea - cinnamic acid mixture. There are three mixtures (1:3, 1:1, 3:1), one group only need to do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one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etermine the melting points of unknowns;  all the unknowns are listed on page 54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Melting Points</a:t>
            </a:r>
            <a:br>
              <a:rPr sz="4000"/>
            </a:b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(comments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ightly pack 2-3 mm of sample into a capillary by tapping a capillary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If the mp is known, the apparatus can be heated rapidly to within 20°C before slowing the rate of heating to 1°C/minut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Melting process begins when the first liquid drops are observed and ends when the last trace of solid melt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Times New Roman"/>
              </a:rPr>
              <a:t>Boiling Po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he boiling point of a pure liquid compound is also a characteristic physical proper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Bp’s are dictated by the degree of van-der- Waals, hydrogen bonding, and dipole-dipole interactions between molecu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Bp determination does not help to indicate purity, as bp is affected less by impurit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Times New Roman"/>
              </a:rPr>
              <a:t>Boiling Po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825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0000"/>
                </a:solidFill>
                <a:latin typeface="Times New Roman"/>
              </a:rPr>
              <a:t>Bp is defined as the temperature at which the vapor pressure of the liquid exactly equals the pressure exerted on it. Therefore, correction for current atmospheric pressure is required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(P mm Hg / 760 mm Hg) x measured bp = corrected b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Boiling Points</a:t>
            </a:r>
            <a:br>
              <a:rPr sz="4000"/>
            </a:b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(comments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4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Use the apparatus shown in Figure 3.13 on p. 58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Thermometer bulb must not touch anything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Boiling chips are necessary to provide the proper surface for vapor bubble formation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True boiling is indicated by droplets forming on and dripping from the bulb while observing a constant temperatur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30440" y="5100480"/>
            <a:ext cx="800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00"/>
                </a:solidFill>
                <a:uFillTx/>
                <a:latin typeface="Times New Roman"/>
              </a:rPr>
              <a:t>Postlab questions: 5, 6, 7, 13 (pp. 59-60)</a:t>
            </a:r>
            <a:r>
              <a:rPr b="1" lang="ru-RU" sz="3600" spc="-1" strike="noStrike" u="sng">
                <a:solidFill>
                  <a:srgbClr val="ff0000"/>
                </a:solidFill>
                <a:uFillTx/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angeeta Mereddy</cp:lastModifiedBy>
  <dcterms:modified xsi:type="dcterms:W3CDTF">2007-07-05T21:50:36Z</dcterms:modified>
  <cp:revision>31</cp:revision>
  <dc:subject/>
  <dc:title>PowerPoint Presentation</dc:title>
</cp:coreProperties>
</file>