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577-4806-4025-9A08-52854336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E59-5CF6-4C51-9BA3-B358362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666-4C16-47F9-8DA5-43101F0C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22F-D30E-4323-9C8B-12975C94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00F-F620-42DF-8529-C021E0FD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8A8-D5E7-4CB1-A719-63C17A18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464-6DA6-4ECB-9D08-E494B68E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C7C-0697-4269-8679-67F9DF9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4EA-C3AE-4192-A319-B25A8D2B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069-935C-4F6E-A045-5EBE892B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387-DBE7-40C0-BF26-53785E46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62C-04D2-4893-8EBF-969558A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1D74-9DB2-4870-AB01-ADD41FD787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Recrystal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mportant method of purification for solid organic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substance to be purified is dissolved in a heated sol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saturated solution is allowed to cool and a regular array of crystals will begin to form, leaving any impurities in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crystals are rinsed with cold solvent to remove any adhering impu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crystals are then d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Recrystal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tarting on p. 79, also follow lab hand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) Solubility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) Recrystallization - Phthalic Acid, Naphthalene, and Anthra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) Decol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kip parts 4, 5, 6,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95640" y="3284640"/>
            <a:ext cx="3529080" cy="99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80000" y="1844640"/>
            <a:ext cx="4105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geeta Mereddy</cp:lastModifiedBy>
  <dcterms:modified xsi:type="dcterms:W3CDTF">2007-07-05T21:24:01Z</dcterms:modified>
  <cp:revision>15</cp:revision>
  <dc:subject/>
  <dc:title>PowerPoint Presentation</dc:title>
</cp:coreProperties>
</file>