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DEC-B8EF-4C9E-B8AA-B398A401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666-92B9-49DA-B17C-FB008500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050-5AA2-40FC-85C2-EA828E80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4C3-6373-4742-8C50-53C243DE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6B9-7301-419C-8569-2FB3CA34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C25-449A-48B6-8B67-4BEB813E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E37-6225-442C-A814-A73AADA8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9E0-B760-445F-85C2-B30BFC33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ED9-E925-4691-BC30-D1195B79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CDC-E08B-4DF4-B08A-642F8E72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D03-DDF9-48E9-80F1-1606A49A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F64-8361-4B2B-9628-10C4194A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589F-8297-4FB7-A113-E2316524EB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34936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hapter 7</a:t>
            </a:r>
            <a:br>
              <a:rPr sz="36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traction.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Isolation of Caffeine from Instant Coffee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Ex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is an equilibrium distribution of the compound between two phases (usually water and organic solvent) governed by solubilities of the compound in two solvent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ratio of the solubilities is known as partition coefficien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. It is an equilibrium constant with a certain value for a given substance, pair of solvents and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 = (concentration in organic phase) /(concentration in w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981000"/>
            <a:ext cx="8229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n this lab a very concentrated aqueous solution of coffee is prepared and shaken vigorously with an organic solvent (dichloromethane or methylene chloride C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 to make an emulsion that can be broken (separated into two layers) by centrifugation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Caffeine is isolated by subl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llow pp. 168-169 (microscale) and the lab handout for all experimental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429264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 sure to collect bottom layer (organic 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uring the iso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 not add the ice to the cooling tube till you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white smoke coming out inside the fl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eigh the product and calculate the % yield (or % contents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Measure the melting poin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of you final produ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can you say about the purity of isolated caffeine judging by mp val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ngeeta Mereddy</cp:lastModifiedBy>
  <dcterms:modified xsi:type="dcterms:W3CDTF">2007-07-05T21:39:02Z</dcterms:modified>
  <cp:revision>78</cp:revision>
  <dc:subject/>
  <dc:title>PowerPoint Presentation</dc:title>
</cp:coreProperties>
</file>