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B4FD-488A-46DC-A2A6-B4F8E90B2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2009-8B25-41D7-82D4-FC5266B8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7BF2-A9D8-4BCC-B9D5-4BD56E218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DB20-73B9-45D8-BFD6-9B04817C1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6804-F2A9-4356-8ABF-7BCCD13A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58AB-4578-4BB6-9B3F-8E4609F9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95C8-1ABB-4531-ADCD-6C96A333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6D4D-3E00-4D2D-99A1-9A0447CA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787C-95BD-49BA-93E4-118ACBB5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239B-C4D4-4FAB-A489-0FF83AE7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2832-E534-4F64-9241-8DD094D4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BD15-1E56-4CFF-A8B1-DBEF0B06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6ECF-2B0B-4C53-9367-47868866BC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34936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Chapter 33</a:t>
            </a:r>
            <a:br>
              <a:rPr sz="32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rityl Methyl Ether and Trityl Bromide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4723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In these experiments triphenylmethanol is dissolved in highly acidic medium forming the propeller-shaped triphenylmethyl carbocation. The resulted carbocation reacts quickly with methanol or bromide ion to give the target compound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116000" y="907920"/>
            <a:ext cx="727236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4360" y="907920"/>
            <a:ext cx="77724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ollow pp. 478-481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microscal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ollow the lab handout for all experimental procedures.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earing rubber gloves is necessary during this lab. You will work with corrosive and harmful compou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termine mp and calculate yield of final products. Low to moderate yields should are typic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(Moles Product / Moles Starting Material) x 100 = % Y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Saf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56908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ncentrated sulfuric acid and hydrobromic acid are corrosive, handle with c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82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Triphenylmethyl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rivatives </a:t>
            </a:r>
            <a:r>
              <a:rPr b="1" lang="en-US" sz="3300" spc="-1" strike="noStrike">
                <a:solidFill>
                  <a:srgbClr val="ff0000"/>
                </a:solidFill>
                <a:latin typeface="Times New Roman"/>
              </a:rPr>
              <a:t>are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300" spc="-1" strike="noStrike">
                <a:solidFill>
                  <a:srgbClr val="ff0000"/>
                </a:solidFill>
                <a:latin typeface="Times New Roman"/>
              </a:rPr>
              <a:t>corrosive an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rritating to eyes, respiratory system and skin.</a:t>
            </a:r>
            <a:r>
              <a:rPr b="1" lang="en-US" sz="3300" spc="-1" strike="noStrike">
                <a:solidFill>
                  <a:srgbClr val="ff0000"/>
                </a:solidFill>
                <a:latin typeface="Times New Roman"/>
              </a:rPr>
              <a:t> Do not swallow and inhale, a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void contact with skin and eyes</a:t>
            </a:r>
            <a:r>
              <a:rPr b="1" lang="en-US" sz="3300" spc="-1" strike="noStrike">
                <a:solidFill>
                  <a:srgbClr val="ff0000"/>
                </a:solidFill>
                <a:latin typeface="Times New Roman"/>
              </a:rPr>
              <a:t>. Wear eye protection and rubber gloves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ngeeta Mereddy</cp:lastModifiedBy>
  <dcterms:modified xsi:type="dcterms:W3CDTF">2007-07-05T21:50:03Z</dcterms:modified>
  <cp:revision>151</cp:revision>
  <dc:subject/>
  <dc:title>PowerPoint Presentation</dc:title>
</cp:coreProperties>
</file>