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88C-2B31-45B8-AF3D-C56293BF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8A1-3A16-4B1F-8988-2EB89E3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E4A-715D-4791-A931-A8D82551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328-ACAB-483F-8146-5F4765BD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687-0AF4-4A54-AF11-7275FA3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B15-4A12-4AC0-B5E7-28ED7D0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FF5-71AE-41C4-8490-7A5E278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142-D2E4-461B-9FAF-B2F2765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277-66C8-4B4D-914C-5ECC34D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C6B-7EBD-4BDB-8A45-F9E41A1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187-19CF-4444-9512-FCE5A7B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BEC-075C-4C80-A45D-FCCB009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1F8-643C-432F-AEA0-0409FD6EB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hapter 6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bli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Subl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blimation is the process whereby a solid evaporates from a warm surface and condenses on a cold surface as a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blimation is preferred over crystallization for &lt; 100mg purification as there is little loss of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se apparatus shown in Figure 6.21, p. 130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You are to use vacuum sublimation for high mp substances (&gt;80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). Vacuum line is attached to the side arm of the filter fl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blime two known and one unknown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termine mass, % yield, and mp for unknown characterization (Table 6.3, p. 13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TE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o NOT get water in the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宋体"/>
              </a:rPr>
              <a:t>Postlab Questions</a:t>
            </a:r>
            <a:br>
              <a:rPr sz="4000"/>
            </a:b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(also stated in the lab han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is the preparative benefit of subli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ite some example of substances that sublime. According to your experience, how can one improve the sublimation process?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34:22Z</dcterms:modified>
  <cp:revision>60</cp:revision>
  <dc:subject/>
  <dc:title>PowerPoint Presentation</dc:title>
</cp:coreProperties>
</file>