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D6D-B2CA-4A25-8C81-2FD4AEE6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E31-DE7F-4E72-9D62-1D42B9CC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45A-F162-4892-8668-F1CD752C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894-F320-45B9-8C8E-A4D414E7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999-C550-493F-83EC-545EF3D5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EF5-FCBB-4A95-8EEF-240C73FB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435-937B-4155-9F57-B5C7B183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198-3F22-4CC9-937F-C6A71202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890-2F98-4D6D-BE1B-1D902A82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BDD-E74D-467D-B945-3FC94938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832-3C58-4D52-8FF4-E7883EF3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448-E1C6-415A-8D38-84DA013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E9D2-0FA8-4E23-8D41-B1C263219B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hapter 20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romination/Debromination of Choleste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 reaction involves nucleophilic attack by the alkene on bromine, forming a tertiary carbocation with bromonium ion character. This ion is attacked from the backside by bromide ion to form dibromocholesterol in the trans and diaxial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 reaction is employed in the practical purpose of purifying choleste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77770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llow p. 360, 36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microsca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llow the lab handout for all experimental procedures.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earing rubber gloves is necessary during this lab. You will work with toxic  and corrosive comp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lculate yield. Moderate to good yields should be achie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(Moles Product / Moles Starting Material) x 100 = %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 question 2, p. 36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8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Avoid getting the acetic acid and bromine solution on ski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8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Be gentle when stirring in a test tube as it is easy to punch a stirring rod through the bottom of the test tub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8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Filtrate (liquid waste) contains halogenated material and must be placed into the halogenated waste container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ngeeta Mereddy</cp:lastModifiedBy>
  <dcterms:modified xsi:type="dcterms:W3CDTF">2007-07-05T21:44:49Z</dcterms:modified>
  <cp:revision>115</cp:revision>
  <dc:subject/>
  <dc:title>PowerPoint Presentation</dc:title>
</cp:coreProperties>
</file>